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8EE45-C145-476F-AF02-69AD3C55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6E51-8558-471E-A12B-B98F2D6C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F4D1-F28A-4CAF-BC94-7D2F62D43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4AB8E-9703-4904-8AC7-63F30028E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C8DA6-984D-4705-89F7-26E97279B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C038-7E34-4C6A-82D1-5C956138D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779-35AC-412C-B5F6-9B84ACC02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53F-FFFA-4262-949A-49B03EC41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B4D3-09D3-45E6-8772-BE45682C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E8B8-0DAA-491E-ADF3-851A8B7F7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73E6-5B54-4118-8128-045C5B2D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2CA0-1582-4DE5-82A8-0BF1DB5E5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C79FD-5C4F-4B8E-AF58-59CC78034221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703600" y="148608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Arial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94320" y="19177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87720" y="2422440"/>
            <a:ext cx="329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828720" y="3144960"/>
            <a:ext cx="7815240" cy="1755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208840" y="60958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оц. др. Јована Јоксимовић Ј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4211640" y="1100160"/>
            <a:ext cx="12970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418480" y="285264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ВИТАМИН D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ХИДРОКСИХОЛЕКАЛЦИФЕР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489040" y="126828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МЕТАБОЛИЗАМ ВИТАМИН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4000" y="1916280"/>
            <a:ext cx="85690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- холекалциферол, настаје у кожи од 7-дехидрохолестерола под утицајем сунчевог зра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се транспортуј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везан за специфични глобулин– витамин D-везујући протеин (енгл. vitamin D – binding protein – D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метаболише дејством ензима који припадају суперфамилији цитохром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450 (CY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јетри се витами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нвертује у 25-хидроксихолекалциферол (калцидиол, 25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HD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5-хидроскихолекалциферол се у ћелијама проксималних тубула конвертује у много активнији метаболит 1,25-дихидроксихолекалциферол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(1,25-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H)2D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концентрација калцитриола  је око 0,0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се уноси у организам и исхра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791720" y="1125360"/>
            <a:ext cx="57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Стварање и хидроксилација витамина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Vladimir Zivkovic\Desktop\GANONG\SLIKE\XXI POGLAVLjE\PNG\Gan024_Deo_21-02.png"/>
          <p:cNvPicPr/>
          <p:nvPr/>
        </p:nvPicPr>
        <p:blipFill>
          <a:blip r:embed="rId2"/>
          <a:stretch/>
        </p:blipFill>
        <p:spPr>
          <a:xfrm>
            <a:off x="1116000" y="1773360"/>
            <a:ext cx="6551640" cy="3960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042920" y="5732640"/>
            <a:ext cx="698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5-хидроксилација се одиграва у јетри, а остале хидроксилације се првенствено одвијају у бубре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е 7-дехидрохолестерола, витамина D3, као и 1,25-дихидроксихолекалциферола су приказане на сли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910440" y="148428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е улоге и механизам дејства калцитри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220500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већање апсорпције калијума (и фосфата) из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1,25-дихидроксихолекалциферол стимулише експресију великог броја генских продуката који су укључени у транспорт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 његово преузимање преко специфичних 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калбиндини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б) 1,25-дихидроксихолекалциферол повећава број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АТP-азе и TRVP6 у интестиналним епителним ћелијама  повећава капацитет за апсорпцију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з 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брзање реапсорпције Ca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2+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из бубре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повећање експресије TRVP5 у прокисмалним тубулима 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.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већаве апсорпцију калцијума у кости (снижава хиперкалцијем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повећање остеокластне а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ИНТЕЗЕ ВИТАМИНА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220500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интеза калцитриола у бубрезима (катализује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а) под контролом је повратне спреге у зависности од концентрације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да је ниво Ca2+ у плазми висок, продукује се мало калцитриола (омогућава адаптацију апсорпције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з цре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стимулише експресију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е секреција се повећава када је ниво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плазми низ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тварање калцитриола је повећано смањењем концентрације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ефектом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на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додатна контрола стварања калцитриола се оствару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механизмом негативне повратне спреге овог метаболита на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б) директним инхибиторним ефектом на паратиреоидну жлезду (продукује мање P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214360" y="2852640"/>
            <a:ext cx="48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d33ff"/>
                </a:solidFill>
                <a:latin typeface="Calibri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79640" y="119700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УНКЦИОНАЛНА 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Vladimir Zivkovic\Desktop\GANONG\SLIKE\XXI POGLAVLjE\PNG\Gan024_Deo_21-04.png"/>
          <p:cNvPicPr/>
          <p:nvPr/>
        </p:nvPicPr>
        <p:blipFill>
          <a:blip r:embed="rId2"/>
          <a:stretch/>
        </p:blipFill>
        <p:spPr>
          <a:xfrm>
            <a:off x="539640" y="198900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Vladimir Zivkovic\Desktop\GANONG\SLIKE\XXI POGLAVLjE\PNG\Gan024_Deo_21-05.png"/>
          <p:cNvPicPr/>
          <p:nvPr/>
        </p:nvPicPr>
        <p:blipFill>
          <a:blip r:embed="rId3"/>
          <a:stretch/>
        </p:blipFill>
        <p:spPr>
          <a:xfrm>
            <a:off x="4500720" y="3213000"/>
            <a:ext cx="3681360" cy="2424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427640" y="5589720"/>
            <a:ext cx="552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Пресек паратиреоидне жлезде ч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Мале ћелије су главне ћелиј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Велике тачкасте ћелије су оксифилне ћелиј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(посебно оне у доњем левом делу слик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5805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ратиреоидне жлезде код љ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посматрано са задње стра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СИНТЕЗ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4000" y="2205000"/>
            <a:ext cx="856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је линеарни полипептид (84 аминокиселинска остат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интетише се из већег молекула који садржи 115 аминокиселинских остатака (пре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 уласку пре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ендоплазматски ретикулум ствара се 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(90 аминокисе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Голџијевом апарату шест аминокиселина се уклања из 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а амино - настај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(84 аминокисе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4.     РТН се пакује у секреторне грануле и ослобађа као главни секреторни продукт главних ће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МЕТАБОЛИЗАМ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24000" y="249228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е вредност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су 10–5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уживо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око 10 мин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РТН се рапидно цепа у Купферовим ћелијама јетре у фрагменте који су биолошки неактив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Затим с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 настали фрагменти одстрањују путем 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А ДЕЈСТВ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4000" y="270828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 мобилиза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sr-R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з коштаног матрик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(или обрнуто у зависности од потре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2.   повећање реапсорп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 дисталним тубу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3.   повећање продукције калцитриола (повећана апсорпциј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з цр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4.   повећање екскреције фосфата ур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480960" y="2779560"/>
            <a:ext cx="8480520" cy="70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4000" y="2205000"/>
            <a:ext cx="8569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1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з циркулације - негативна повратна спрега секреци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активација мембранског рецептора з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Ca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хибише лучењ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да је ни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висок, 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је инхибисан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е одлаже у кост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да је ни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низак, 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се повећав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е мобилише из кости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 смањује лучење РТ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ћана концентрација фосфата у плазми стимулише секрецију 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За одржавање нормалног секреторног одговора паратиреоидних жлезда, неопходан фактор је магнез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Уколико постоји дефицијенција магнезијума, ослобађа се мање 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и смањује се одговор ткива на 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95280" y="206064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нижава концентрациј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дукују га парафоликуларне ћелије тиреоидне 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(чисте и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калцитонина стимулишу β-адренергички агонисти, допамин, естрогени, гастрин, холецистокинин, глукагон и 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јство калцитонина је кракотрајно (полуживот мањи од 10 мину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-Физиолошке улог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220500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лцитонин изазива смањење концентрације калцијума у циркулац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хибиција реапсорп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 кост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 екскре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р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же штитити кости мајке од губитка калцијума током трудн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же имати улогу у развоју ске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ису описани симптоми карактеристични за недостатак калцито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а веома слаб дугорочни ефекат на одржавање ниво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ма утицај на хомеостазу фосфата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1" descr=""/>
          <p:cNvPicPr/>
          <p:nvPr/>
        </p:nvPicPr>
        <p:blipFill>
          <a:blip r:embed="rId1"/>
          <a:stretch/>
        </p:blipFill>
        <p:spPr>
          <a:xfrm>
            <a:off x="2273400" y="2779560"/>
            <a:ext cx="4889520" cy="706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900000" y="1197000"/>
            <a:ext cx="66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Опште одлике Лангерхансовог остр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2205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валне ћелијске формације (76 x 175 μ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бацана по панкреасу (много више има у репу него у телу и гла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д човека постоји 1–2 милиона острв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ато снабдевена крвљ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в из се дренира у портну в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Vladimir Zivkovic\Desktop\GANONG\SLIKE\XXIV POGLAVLjE\PNG\Gan024_Slika_24-01.png"/>
          <p:cNvPicPr/>
          <p:nvPr/>
        </p:nvPicPr>
        <p:blipFill>
          <a:blip r:embed="rId2"/>
          <a:stretch/>
        </p:blipFill>
        <p:spPr>
          <a:xfrm>
            <a:off x="4643280" y="3573360"/>
            <a:ext cx="3160800" cy="241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ангерхансово острвце у панкреасу па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мно су обојене β-ћел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979640" y="119700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Типови ћелија и њихов знач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95280" y="22050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ири различита типа ћелија: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, β, 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, 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 се зову и 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α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глук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β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δ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соматост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панкреасни полипепт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 су заступљене у највећем броју (60–75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лазе се у центру сваког остр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е су у највећем броју окружене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ама (око 20% ), док се у мањем проценту око њих налазе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835280" y="2708280"/>
            <a:ext cx="58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СТРУКТУРА, БИ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И СЕКРЕЦИЈА ИНСУ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- Биосинтеза и секрециј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95280" y="220500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је полипептид који се састоји од два ланца аминокиселина повезана дисулфидним мос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нтеза у гранулисаном ендоплазматском ретикулуму β-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анспорт у Голџијев апарат (паковање у грануле које су везане за мембра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езивање гранула за плазма мембрану преко микроту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лучивање садржаја процесом егзоцит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лазак кроз базалну ламину β-ћелија и суседних капи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азак у кров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Vladimir Zivkovic\Desktop\GANONG\SLIKE\XXIV POGLAVLjE\PNG\Gan024_Slika_24-03.png"/>
          <p:cNvPicPr/>
          <p:nvPr/>
        </p:nvPicPr>
        <p:blipFill>
          <a:blip r:embed="rId2"/>
          <a:stretch/>
        </p:blipFill>
        <p:spPr>
          <a:xfrm>
            <a:off x="5867280" y="3860640"/>
            <a:ext cx="2995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- Биосинтеза и секрециј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95280" y="220500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се синтетише као део великог препрохор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проинсулин настаје у ендоплазматском ретикул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о молекула се уклања, а дисулфидни мостови се постављају тако да чине про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ни сегмент који повезује А и B-ланац 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зујући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енгл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necting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ptide – C-pept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зујући С пепти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брзава одвајање ланаца  и одваја се у гранулама непосредно пре секре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а инсулина праћена секрецијом еквимоларних колич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-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пептид се може детектовати радиоимуноесејом, тако да његов ниво у крви представља индекс функције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ћелија код пацијената који примају егзогени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95280" y="2205000"/>
            <a:ext cx="856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уживот инсулина у хуманој плазми је око пет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се везује за инсулински рецептор, а остатак се интернализ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јства инсулина се конвенционално деле на брза, интермедијерна и одло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познатији је хипогликемијски ефекат, али веома су значајни и ефекти на транспорт електролита, на многе ензиме и на 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то ефекат овог хормона је депоновање глукозе, масти и протеина („хормон изобиљ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”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301920" y="1268280"/>
            <a:ext cx="2329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68360" y="227664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м садржи око 1.100 g (27,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mol) калциј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99% калцијума се налази у скел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концентрација калцијума у плазми износи 2,5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ан за протеине и слободни јонизовани облик (еквивалент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rcRect l="0" t="17501" r="0" b="0"/>
          <a:stretch/>
        </p:blipFill>
        <p:spPr>
          <a:xfrm>
            <a:off x="2268360" y="3716280"/>
            <a:ext cx="453708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40000" y="60213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истрибуција калцијума у плазми човек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(mg/d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ПРИМАРНА 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977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403280" y="54936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ДЕЈСТВА ИНСУЛИНА НА РАЗЛИЧИТЕ О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67103" r="0" b="0"/>
          <a:stretch/>
        </p:blipFill>
        <p:spPr>
          <a:xfrm>
            <a:off x="2411280" y="3933720"/>
            <a:ext cx="4392720" cy="277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0" t="30068" r="19678" b="33031"/>
          <a:stretch/>
        </p:blipFill>
        <p:spPr>
          <a:xfrm>
            <a:off x="4572000" y="1268280"/>
            <a:ext cx="36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3"/>
          <a:srcRect l="0" t="0" r="34433" b="68914"/>
          <a:stretch/>
        </p:blipFill>
        <p:spPr>
          <a:xfrm>
            <a:off x="539640" y="1268280"/>
            <a:ext cx="3745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ТРАНСПОРТЕРИ ЗА ГЛ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95280" y="2205000"/>
            <a:ext cx="85694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укоза улази у ћелију процесом олакшане дифузије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LUT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транспортери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ли секундарним активним транспортом са јоним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sr-R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убрези и цр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мишићима и масном ткиву, инсулин стимулише улазак глукозе у ћелију повећањем броја транспортера за глукозу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LUT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ћелијској мемб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 сада је идентификовано седам различитих GLUT названих GLUT 1–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е разликују од натријум-зависних глукозних транспортера који омогућавају секундарни активни транспорт глукозе у цревима и бубрежним тубули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ТРАНСПОРТЕРИ ЗА ГЛ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896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187280" y="1197000"/>
            <a:ext cx="638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-СЕНЗИТИВНИ ТРАНСПОРТЕР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GLUT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628640"/>
            <a:ext cx="87138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4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је транспортер у мишићима и масном ткиву, који је осетљив на инсул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п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4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 се налази у везикулама у цитоплазми инсулин-сензитивних ћелиј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ада се на тим ћелијама активирају рецептори за инсулин, везикуле брзо долазе до ћелијске мембране, фузионишу се са њом и убацују транспортере у мембрану (под дејством фосфатидилинозитол 3-киназ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ада дејство инсулина престане, делови мембране који садрже транспортере се увлаче ендоцитозом у ћелију и образују везикуле које су спремне за следеће излагање инсулин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Већина других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оји нису сензитивни на инсулин, конститутивни су протеини ћелијске мембра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Vladimir Zivkovic\Desktop\GANONG\SLIKE\XXIV POGLAVLjE\PNG\Gan024_Slika_24-04.png"/>
          <p:cNvPicPr/>
          <p:nvPr/>
        </p:nvPicPr>
        <p:blipFill>
          <a:blip r:embed="rId2"/>
          <a:stretch/>
        </p:blipFill>
        <p:spPr>
          <a:xfrm>
            <a:off x="3708360" y="4270320"/>
            <a:ext cx="52246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979640" y="476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МЕХАНИЗАМ 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413000"/>
            <a:ext cx="5329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цептори за инсулин се налазе свуда у телу (чак и у ћелијама у којима инсулин не повећава улазак глукоз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ски рецептор се састоји од две α и две β-гликопротеинске субједин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а свом интрацелуларном крају β-субјединиц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спољава тирозин киназну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ивање инсулина за рецептор активира тирозин киназну активност β-субјединице, и изазив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аутофосфорилацију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убјединица на тирозински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стац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утофосфорилација, која је неопходна за остваривање биолошких дејстава инсулина, изазив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орилацију појединих интрацелуларних протеин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дефосфорилацију других, већином на серинским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 треонинским остац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Vladimir Zivkovic\Desktop\GANONG\SLIKE\XXIV POGLAVLjE\PNG\Gan024_Slika_24-06.png"/>
          <p:cNvPicPr/>
          <p:nvPr/>
        </p:nvPicPr>
        <p:blipFill>
          <a:blip r:embed="rId1"/>
          <a:stretch/>
        </p:blipFill>
        <p:spPr>
          <a:xfrm>
            <a:off x="5508720" y="184464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24000" y="1916280"/>
            <a:ext cx="85690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глукоза је једини извор енергије за мозак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ве познате последице повећаног лучења инсулина су директне или индиректне манифестације последица хипогликемије на ЦНС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1.    Када дође до благог пада концентрације глукозе у плазми, први симптоми су палпитације, знојење и нервоза услед аутономне дисфункциј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2.    Уколико је концентрација глукозе у плазми нижа, почињу да се јављају тзв. неурогликопенијски симптоми (глад, конфузија и други когнитивни поремећај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3.    Уколико концентрација глукозе и даље опада, развијају се летаргија, кома, конвулзије и смртни исхо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*     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  <a:ea typeface="Arial"/>
              </a:rPr>
              <a:t>Брз равој хипогликемијских симптома обавезно захтева ургентан третман глукозом или напицима који садрже глукозу, као што су воћни соков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633400" y="12682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ПОВЕЋАНО ЛУЧЕЊ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5280" y="2492280"/>
            <a:ext cx="856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ТИ КОНЦЕНТРАЦИЈЕ ГЛУКОЗЕ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ИВАТИ ПРОТЕИНА И М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ЦИКЛИЧН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РАЛНИ ХИПОГЛИКЕМИЈСКИ АГЕН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ТИ АУТОНОМНОГ НЕРВНОГ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СТИНАЛНИ ХОРМ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УГОТРАЈНЕ ПРОМЕНЕ У СЕКРЕТОРНОМ ОДГОВОРУ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195640" y="1341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5280" y="1268280"/>
            <a:ext cx="8569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 концентрација инсулина у плазми наташте се креће од 0 до 70 μU/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979640" y="47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195640" y="1700280"/>
            <a:ext cx="56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 који утичу на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2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ЕФЕКТИ КОНЦЕНТРАЦИЈЕ ГЛУКОЗЕ У ПЛАЗ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395280" y="2349360"/>
            <a:ext cx="79930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глукозе у β-ћелију путем GLUT 2 транспор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Фосфорилација глукозе посредством глукокин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метаболисање глукозе до пирувата у цито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пирувата у митохондрије и метаболисање до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O</a:t>
            </a:r>
            <a:r>
              <a:rPr b="0" lang="en-US" sz="1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стварање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 процесу оксидативне фосфорил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АТР у цитоплазму и инхибициј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х калијумових 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смањење излазка калијума из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деполаризације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 ћелију путем волтаж-зависних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егзоцитоза секреторних гранула које садрже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84280" y="1268280"/>
            <a:ext cx="2527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Физиолошки значај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68360" y="2276640"/>
            <a:ext cx="842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градња коштаног матри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лободни (јонизовани) калцијум у телесним течностима - секундарни глас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коагулација крви, контракција мишића, функционисање нера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    Ексцитаторна активност нерава и мишић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 v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хипокалцијемијска тетанија (екстензивни спазам скелетних мишића, који је нарочито изражен на екстремитетима и ларинк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ларингоспазам може бити до те мере изражен да узрокује опструкцију дисајних пут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оја може проузроковати фаталну асфик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ЕФЕКТИ КОНЦЕНТРАЦИЈЕ ГЛУКОЗЕ У ПЛАЗ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Vladimir Zivkovic\Desktop\GANONG\SLIKE\XXIV POGLAVLjE\PNG\Gan024_Slika_24-11.png"/>
          <p:cNvPicPr/>
          <p:nvPr/>
        </p:nvPicPr>
        <p:blipFill>
          <a:blip r:embed="rId2"/>
          <a:stretch/>
        </p:blipFill>
        <p:spPr>
          <a:xfrm>
            <a:off x="2916360" y="2205000"/>
            <a:ext cx="36115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3421800" y="602136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ХЕМАТСКИ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РИВАТА ПРОТЕИНА И МАС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24000" y="2637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нсулин стимулише уграђивање аминокиселина у протеине и спречава катаболизам масти до β-кет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ргинин, леуцин и неке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етокиселине (ацетоацетат) стимулишу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ви молекули ствара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,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чиме се затвара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 калијумови кан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L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ргинин је прекурсор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NO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оји стимулише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124000" y="1341360"/>
            <a:ext cx="55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РАЛНИХ ХИПОГЛИКЕМИЈСКИХ АГЕНАС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39640" y="2349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рални хипогликемијски агенси који снижавају концентрацију глукозе у крви повећавањем секреције инсу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толбутамид и деривати сулфонилурее (ацетохексамид, толазамид, глипезид и глибур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делотворни само код пацијената који имају одређени пул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тпуно неефикасни код панкреатектомија или у дијабетесу ти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Механизам регул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1. инхибиција активности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х калијумових 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2. деполаризација ћелијске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3. повећање уласк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ћел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4. ослобађање инсулина независно од концентрације глукозе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124000" y="1341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ЦИКЛИЧНОГ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AMP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-а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539640" y="234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тимулуси који повећавају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MP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 агонисти, глукагон, инхибитори фосфодиестеразе (теофилин) повећавају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атехоламини имају двоструко дејство на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) инхибишу његову секрецију преко α2-адренергичких рецеп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б) преко β-адренергичких рецептора стимулишу његову секре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124000" y="1341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АУТОНОМНОГ НЕРВНОГ СИСТЕМА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539640" y="2349360"/>
            <a:ext cx="7993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1. Парасимпатик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ране десног вагусног нерва инервишу панкреасна острвца и повећавају секрецију инсулина (М4 рецептор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цетилхолин стимулише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већава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цитоплазми (путем фосфолипазе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)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већава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I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слобађ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з ендоплазматског ретикул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2. Симпатик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норадреналин преко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α2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х рецептора инхибише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уколико су </a:t>
            </a:r>
            <a:r>
              <a:rPr b="0" i="1" lang="el-GR" sz="1600" spc="-1" strike="noStrike">
                <a:solidFill>
                  <a:srgbClr val="7030a0"/>
                </a:solidFill>
                <a:latin typeface="Calibri"/>
                <a:ea typeface="Arial"/>
              </a:rPr>
              <a:t>α-</a:t>
            </a: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 рецептори блокирани, симпатикус проузрокује повећање секреције инсулина преко </a:t>
            </a:r>
            <a:r>
              <a:rPr b="0" i="1" lang="el-GR" sz="1600" spc="-1" strike="noStrike">
                <a:solidFill>
                  <a:srgbClr val="7030a0"/>
                </a:solidFill>
                <a:latin typeface="Calibri"/>
                <a:ea typeface="Arial"/>
              </a:rPr>
              <a:t>β2-</a:t>
            </a: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х 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979640" y="404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ИНТЕСТИНАЛНИХ ХОРМОНА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68360" y="13413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упстанце које лучи мукоза гастроинтестиналног тракта стимулишу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лук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деривати глук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холецистокинин (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аст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астрични инхибиторни пептид (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G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8360" y="400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            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УГОТРАЈНИХ ПРОМЕНА У СЕКРЕТОРНОМ ОДГОВОРУ β-ЋЕЛИЈА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042920" y="5013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ако β-ћелије на стимулус одговарају хипертрофијом оне се временом исцрпљују и престају да луче хор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(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сцрпљеност β-ћелије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835280" y="2708280"/>
            <a:ext cx="58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СТРУКТУРА, БИ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И СЕКРЕЦИЈА ГЛУКАГ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е у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611280" y="19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укагон је линеарни полипептидни хормон (29 амино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тују га α-ћелије панкреасних острваца и горњи делови гастроинтестиналног 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чка дејства глуког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гликогенолити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глуконеогенет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липолит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кетоге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Vladimir Zivkovic\Desktop\GANONG\SLIKE\XXIV POGLAVLjE\PNG\Gan024_Slika_24-13.png"/>
          <p:cNvPicPr/>
          <p:nvPr/>
        </p:nvPicPr>
        <p:blipFill>
          <a:blip r:embed="rId2"/>
          <a:stretch/>
        </p:blipFill>
        <p:spPr>
          <a:xfrm>
            <a:off x="4572000" y="2781360"/>
            <a:ext cx="3736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79280" y="2637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глукагона стимули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ипоглик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НС (β-адренергичких рецепто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ес (инфекција, физичко оптерећењ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теини и аминокисел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CCK и гаст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960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24000" y="234936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глукагона инхиби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иперглик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бодне мас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етонск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матост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960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464640" y="1268280"/>
            <a:ext cx="2260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68360" y="2276640"/>
            <a:ext cx="842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транспортује преко четкастог покрова епителних ћелија у цревима путем канала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анилоидни транзиторни рецептори тип 6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енгл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ansient receptor potential vanilloid type 6 – TRPV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ује се за интрацелуларни протеин калбиндин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9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. 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лбиндин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9k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квестрира апсорбовани кал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. апсорбовани калцијум се допрема до базолатералне мембране епителне ћелије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5. одатле се транспортује у крвоток прек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/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нтратранспорте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CX1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висн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T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плазме се филтрира у бубрез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7. 98–99% филитрираног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апсорбује (проксимали тубул, усходни крак Хенлеове петље и дистални туб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516840" y="1125360"/>
            <a:ext cx="22608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33ff"/>
                </a:solidFill>
                <a:latin typeface="Calibri"/>
                <a:ea typeface="Arial"/>
              </a:rPr>
              <a:t>схематски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Vladimir Zivkovic\Desktop\GANONG\SLIKE\XXI POGLAVLjE\PNG\Gan024_Deo_21-01.png"/>
          <p:cNvPicPr/>
          <p:nvPr/>
        </p:nvPicPr>
        <p:blipFill>
          <a:blip r:embed="rId2"/>
          <a:stretch/>
        </p:blipFill>
        <p:spPr>
          <a:xfrm>
            <a:off x="1116000" y="1773360"/>
            <a:ext cx="662472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24000" y="5445000"/>
            <a:ext cx="86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омплетан процес транспорта калцијума регулише калцит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Када се преузимање Ca</a:t>
            </a:r>
            <a:r>
              <a:rPr b="0" i="1" lang="ru-RU" sz="16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+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повећава, ниво калцитриол а се смањује као одговор на повећање концентрације Ca</a:t>
            </a:r>
            <a:r>
              <a:rPr b="0" i="1" lang="ru-RU" sz="16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+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у пла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95240" y="1268280"/>
            <a:ext cx="302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 у костим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2276640"/>
            <a:ext cx="842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јум се налази у костима у два обл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резервоар калцијума који има велики степен измењ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 већи стабилни пул калцијума који се веома споро м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ва независна система утичу на ниво калцијума у кос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први систем - регулише ниво C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 врши измењивање око 500 mmol C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дневно у оквиру променљивог пула у кос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 други систем – ремоделовање костију константном интеракцијом ресорпциј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епозиције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710160" y="1268280"/>
            <a:ext cx="1937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осфор (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2276640"/>
            <a:ext cx="84247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ати се налазе у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MP-у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,3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PG,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отеинима и другим виталним деловима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орилација и дефосфорилација протеина (регулација ћелијске функциј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скелету налази 85–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концентрација фосфора у плазми износ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око 3 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ве трећине у органској форми, остатак у облику неорганског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)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H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–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а фосфора која физиолошки у току дана уђе у кости износи 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g (97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квивалентна количина фосфора се истовремено евакуише реапсорпцијом из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670560" y="1268280"/>
            <a:ext cx="187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осфор (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2276640"/>
            <a:ext cx="842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апсорбује у дуоденуму и танком цреву (натријум зависни трансопртер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транспортер је веома активан у случају ниске интрацелуларне концентрације натријума, која је успостављена дејство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, K AT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зе на базолатералној мембрани епителних ћелија црева, који транспортуј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упротно његовом концентрационом градиј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ут који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спева у крвоток још увек није довољно јас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 повећава апсорпцију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плазме се филтрира у гломерули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85–90% филтрираног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с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апсорбује (проксимални тубул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a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је снажан инхибитор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NaPi-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Jovana Joksimovic</cp:lastModifiedBy>
  <dcterms:modified xsi:type="dcterms:W3CDTF">2021-01-31T18:14:46Z</dcterms:modified>
  <cp:revision>75</cp:revision>
  <dc:subject/>
  <dc:title>ИНТЕГРИСАНЕ АКАДЕМСКЕ СТУДИЈЕ ФАРМАЦИЈЕ  Г04 – Медицинска хемија и дизајн лекова 2</dc:title>
</cp:coreProperties>
</file>