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601F-800B-4234-9DB8-A90C8FAE0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46D3-2B28-419F-98CA-94B9BADF0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2CDD7-C2FE-4296-8345-56FA02254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8F01-A068-4CE1-9749-49D332A07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6002-01DF-46AB-8ED3-172DDC12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8A36-EFF2-4FA7-A406-385C7D60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B147-B506-4E05-A6A3-793513403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ECB44-3D58-4967-A265-7C317DAD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7FAA-C438-47A4-B63C-2C770C26B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26A-FA60-4B20-8432-E116CE60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2A89-8AA5-496C-BED5-B08FD2FC7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1505-E5D0-414E-8E1F-023B3529A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F5239-2D41-4F01-9C62-45F478F2E4A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627280" y="1197000"/>
            <a:ext cx="58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Интергисане академске студије фа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618000" y="16286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ИЗИ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686760" y="2133720"/>
            <a:ext cx="194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МИНАР БРОЈ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206720" y="2708280"/>
            <a:ext cx="697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ff0000"/>
                </a:solidFill>
                <a:latin typeface="Arial"/>
              </a:rPr>
              <a:t>Рахитис и остеомалац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ff0000"/>
                </a:solidFill>
                <a:latin typeface="Arial"/>
              </a:rPr>
              <a:t>Остеопор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4000" spc="-1" strike="noStrike">
                <a:solidFill>
                  <a:srgbClr val="ff0000"/>
                </a:solidFill>
                <a:latin typeface="Arial"/>
              </a:rPr>
              <a:t>Diabetes</a:t>
            </a:r>
            <a:r>
              <a:rPr b="1" i="1" lang="sr-R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Latn-RS" sz="4000" spc="-1" strike="noStrike">
                <a:solidFill>
                  <a:srgbClr val="ff0000"/>
                </a:solidFill>
                <a:latin typeface="Arial"/>
              </a:rPr>
              <a:t>melli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238000" y="6095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тедра за Физиолог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теопо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зрок губитка коштане масе после менопаузе је првенствено недостатак естрогена, па примена естрогена зауставља напредовање болести развоја бол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рогени инхибишу секрецију цитокина као што су: интерлеукин-1(IL-1), IL-6 и фактор некрозе тумор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NF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који иначе подстичу развој остеокл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рогени, такође, стимулишу стварање трансформишућег фактора раст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GF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који стимулише апоптозу остеокл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тепо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убитак коштане масе, такође се може јавити код жена и мушкараца као резултат физичке не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 пацјената који су имобилизовани из било ког разлога, као и током летова у свемиру, ресорпција костију је интензивнија од стварања костију, и настај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теопороза услед неактив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ја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плазми није значајно повећана, а концентрације PTH и 1,25-дихидроксихолекалциферола у плазми су смањене, и велика количина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 губи ури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620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204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рмонска терапија се традиционално користи за лечење остеопоро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пституциона терапија естроге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започета непосредно након менопаузе, помаже у одржању густине ткива. Међутим, изгледа да чак и мале дозе естрогена могу повећати инциденцу тумора материце и дој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 тако, у строго контролисаним студијама показано је да естрогени немају кардиопротективно деј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га, лечење жена естрогеном у менопаузи није више терапија из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620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204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локсиф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елективни модулатор рецептора за естроген) код жена у постменопаузи може да имитира корисне ефекте естрогена на густину костију, без неких ризика удружених са применом естрог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ђутим, примена овог лека носи  ризик од настанка нежељеног дејства (нпр. стварање тромб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хормонској терапији, такође се користе и калцитонин, као и аналог паратиреоидног хормона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рипарати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620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204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тернатива хормонској терапији је приме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ифосфо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и лекови могу да спрече губитак коштане масе, очувају коштану масу, па чак и повећавају густину костију у кичменом стубу  куковима, смањујући тако ризик од настанка прел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алост, ови лекови изазивају умерена и озбиљна нежељена дејства, и захтевају праћење пацијената током терап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620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апијске смер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204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д терапије хормонима и лековима,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изикална терап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могућава одговарајуће повећање механичког оптерећења и снаге мишића, што значајно побољшава квалитет жив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4400" spc="-1" strike="noStrike">
                <a:solidFill>
                  <a:srgbClr val="ff0000"/>
                </a:solidFill>
                <a:latin typeface="Arial"/>
              </a:rPr>
              <a:t>Diabetes mellitus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55520" y="-1096920"/>
            <a:ext cx="2857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упа обољења проузрокована недостатком инсулина назива с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чки и римски лекари су користили терми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abet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означе стања у којима је главни налаз био велика количина урина, и разликовали су два тип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 коме је урин био сладак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abetes insipit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коме је урин био без ук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betes insipi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ас термин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abetes insipit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значава стање у којем постоји дефицит у лучењу или деловању вазопресина, а не промењени термин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diabe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је опште прихваћен као синоним з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abetes mellit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роци настанка дијабет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зрок клиничког дијабетеса је увек недостатак ефеката инсулина на ткивном ниво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п 1 дијабете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сулин зависни дијабете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D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је проузрикован недостатком инсулина услед аутоимунске деструкције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ћелија панкреасних острваца и чине 3-5% случајева и обично се јавља код де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п 2 дијабете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 инсули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зависни дијабете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DD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карактерише поремећена регулација ослобађања инсулина удружена са инсулинском резистенцијом у периферним ткивима, као што су скелетни мишићи, мозак и јетр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ff0000"/>
                </a:solidFill>
                <a:latin typeface="Arial"/>
              </a:rPr>
              <a:t>Рахитис и остеомалациј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мптоми дијабет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ијабетес карактериш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лиуруја (излучивање велике количине ур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лидипсија (појачан унос течност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убитак тежине упркос полифагији (повећан апети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хиперглик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ликоз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ет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цид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хемијски поремећа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 дијабетесу постоје многи биохемијски поремећаји, али основни дефекти на основу којих већина поремећаја може бити праћена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мањен улазак глукозе у различита периферна ткив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већано ослобађање глукозе у циркулацију из јет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бог тога постоји екстрацелуларни вишак глукозе и интрацелуларни недостатак глукозе (у многим ћелијама) - стање се назива гладовање поред изобиљ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ође, смањен је улазак аминокиселина у мишића, а повећана је липоли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620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апијске смер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204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дијабетесу типа 1 основна терапија је обезбеђивање ендогеног инсулина пажљиво дозираног према уносу глукозе исхран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дијабетесу тип 2 промене у стилу живота, као што су промене у исхрани или повећање физичке активности, често могу да одложе симптоме у раној фази болести, али је тешко бити сигуран у 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ови који повећавају осетљивост на инсулин представљају следећи избор у терапиј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хитис и остеомал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остатак витамина D доводи до неправилне калцификације коштаног матрикса, при чему настај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х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д деце, или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теомал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д одрасл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ако је 1,25- дихидроксихоликалциферол неопходан за правилну минерализацију коштаног матрикса, главни узрок овог обољења је немогућност допремање довољних количина Ca и P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о места минерализ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хитис и остеомал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да се стање развије у потпуности, код деце долази до слабости и деформитета дугих костију, оштећења зуба и хипокалцијем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 одраслих, ово стање изазива мање уочљиве симпто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роци настанка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аније је главни узрок настанка овог обољења  био недовољно излагање сунчевим зрацима у загађеним градо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 данашње време, ово обољење много чешће настаје услед недовољног уноса провитамина (који се у кожи трансформише под утицајем сунчевих зра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тације као узрок настанка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о обољење такође може настати као због мутације гена за бубрежну 1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хидроксилазу, или у тешким поремећајима функције бубрега и јетре, при чему нема одговора на примену витамина D, а постоји нормалан одговор на примену 1,25-дихидроксихолекалциферола (витамин D-резистентни рахитис тип 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ретким случајевима може постојати мутација гена за рецептор за 1,25- дихидроксихолекалциферол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тамин D-резистентни рахитис тип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при чему постоји недовољан одговор на примену витамина Д као и за 1,25-дихидроксихолекалцифер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9992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чење се спроводи у зависности од биохемијске основе бол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тинска примена млека обогаћеног витамином D значајно је смањила појаву рахитиса у западним земљама, док је у земљама у развоју ова болест и даље једна од најчешћих у дечијем узр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шки облици болести понекад се морају хирушки третир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gtbc.fm/wp-content/uploads/2015/09/vitamind.jpg"/>
          <p:cNvPicPr/>
          <p:nvPr/>
        </p:nvPicPr>
        <p:blipFill>
          <a:blip r:embed="rId2"/>
          <a:stretch/>
        </p:blipFill>
        <p:spPr>
          <a:xfrm>
            <a:off x="4643280" y="4508640"/>
            <a:ext cx="42498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ff0000"/>
                </a:solidFill>
                <a:latin typeface="Arial"/>
              </a:rPr>
              <a:t>Остеопороза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63" name="AutoShape 2"/>
          <p:cNvSpPr/>
          <p:nvPr/>
        </p:nvSpPr>
        <p:spPr>
          <a:xfrm>
            <a:off x="155520" y="-1096920"/>
            <a:ext cx="2857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www.homeo-herb.com/wp-content/uploads/2013/05/osteoporoza.jpg"/>
          <p:cNvPicPr/>
          <p:nvPr/>
        </p:nvPicPr>
        <p:blipFill>
          <a:blip r:embed="rId1"/>
          <a:stretch/>
        </p:blipFill>
        <p:spPr>
          <a:xfrm>
            <a:off x="1476360" y="3411360"/>
            <a:ext cx="64803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теопо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е имају мање коштане масе у односу на мушкар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 менопаузе, жене иницијално знатно брже губе коштану масу него мушкарци истог животног до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дично, оне су подложније развоју остеопороз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6:16:54Z</dcterms:created>
  <dc:creator>Maja Jovanovic</dc:creator>
  <dc:description/>
  <dc:language>en-US</dc:language>
  <cp:lastModifiedBy>Vladimir Zivkovic</cp:lastModifiedBy>
  <dcterms:modified xsi:type="dcterms:W3CDTF">2016-05-16T07:54:30Z</dcterms:modified>
  <cp:revision>200</cp:revision>
  <dc:subject/>
  <dc:title>ИНТЕГРИСАНЕ АКАДЕМСКЕ СТУДИЈЕ ФАРМАЦИЈЕ  Г04 – Медицинска хемија и дизајн лекова 2</dc:title>
</cp:coreProperties>
</file>